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D50C-72B0-45EE-9955-DAB277A470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E1ED-FEBD-4305-A355-3E6AC7D895E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E7C9-DCFD-4A12-9EC5-99589EAFE86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9D15-A088-4C01-AEEE-A7245278D8E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9833F-F556-4348-93A4-731A5392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BF295-4176-4DFC-94F5-37E67C51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429F1-1F93-498C-AC1F-73E077CD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2D874-D9E5-41AB-8861-A5087127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4F121-EF7A-454B-87FF-B24C73CF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D1C14-B5DF-45BE-BB85-AF7FAFF0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2FAAA-6F89-4FB5-8187-10461690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1B2CD-D170-46F3-9829-B60BC993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31388-7AE8-4B9D-9FC3-C42D170A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F3563-2D96-4DB0-BFB3-27DBE3EC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82938-6255-428E-A3B4-789811F6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18239-CBD0-4898-BD22-989412DE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6BB8-C3A8-454C-97C7-627ECCAFBD5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C299-01A2-4B86-9E08-E9D8ED137A6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929E-35B3-465A-9D72-DB80081562A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090A-9101-4C44-8A05-9377475CB73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EE95-9282-4F2E-B8B8-2487E1640F8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 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 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8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00880"/>
            <a:chOff x="0" y="0"/>
            <a:chExt cx="9358200" cy="650088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8480"/>
                <a:chOff x="356760" y="785520"/>
                <a:chExt cx="8644320" cy="304848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16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4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3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15600" cy="2530440"/>
              <a:chOff x="285480" y="3970440"/>
              <a:chExt cx="8715600" cy="253044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12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573040" cy="2503440"/>
                <a:chOff x="356760" y="3970440"/>
                <a:chExt cx="8573040" cy="250344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532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51480"/>
                  <a:ext cx="8573040" cy="19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세부 내용 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0-211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5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17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356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와 문제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6080"/>
              <a:chOff x="142920" y="-71280"/>
              <a:chExt cx="8858160" cy="328608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760"/>
                <a:chOff x="285480" y="500040"/>
                <a:chExt cx="8715600" cy="271476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에 머무는 시간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1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유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여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보다 개인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 및 여가활동 사용시간이 더 많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일 여가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+ 4.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에 소비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 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9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초 가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산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여가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6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5.6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4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0.4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이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금씩 증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이나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1:36:30Z</dcterms:modified>
  <cp:revision>3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